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7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077-A608-4A45-8AC1-C940610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023-C940-4D9B-9455-6242BC0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35D-DBF1-43D2-BF61-1B5F4A52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472-7A2A-45F7-9099-DEE7E5A1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4EE0-174E-4152-AE37-01C6DFCF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AFAB-9041-4F89-9605-B100E1E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9816-784B-47C0-8E00-40AF6142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4C35-92CA-4C7C-86E1-29D667AC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BC29-5118-4154-A6A1-BF4CD51B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694-257C-44CB-AB16-35A125C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9BE4-3089-427B-BE6B-EBAC0C0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9D9-3D15-451A-8E29-B4555A7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9F5-B6BE-468E-BE57-BAAFFD0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F6D9-1560-4ED8-866F-6DD0735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3351-0C66-4EDD-8F75-7A92944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854-3EB1-41A9-BD3A-D40FEF5A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B712-35F4-404B-BC48-5B1C363F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567-9270-4A13-B261-85466627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962-8CA0-4BEE-A931-5CD3D2F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478-081F-4482-922C-A491235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936-09C6-4661-9325-974C341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EA0-9C13-4A00-AC0F-DAE983C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E04-039F-4CBF-A7A3-4597204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FCE-AE53-4D06-960A-C39F018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1716-5B40-4ED3-ABCD-8FA69A654F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2B2-71D5-4709-9B5C-89057F6089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ое   дошкольное образовательное автономное  учреждение МДОАУ д/с «Улыбк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1642680"/>
            <a:ext cx="8572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«Технология метода  проектов в детском  саду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пита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ексеева Л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rcoc3-66eWk.jpg"/>
          <p:cNvPicPr/>
          <p:nvPr/>
        </p:nvPicPr>
        <p:blipFill>
          <a:blip r:embed="rId2"/>
          <a:stretch/>
        </p:blipFill>
        <p:spPr>
          <a:xfrm>
            <a:off x="3067200" y="2779560"/>
            <a:ext cx="350964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643040" y="2286000"/>
            <a:ext cx="7286760" cy="106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здание условий для формирования нрав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ценностей и ценностей здорового образа жиз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43040" y="3581280"/>
            <a:ext cx="7286760" cy="1219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риобщение  детей к прошлому и настоящему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культуры, а также к явлениям други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(в их историческом и географическом аспек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643040" y="5029200"/>
            <a:ext cx="7272360" cy="609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установок  толерантного созна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643040" y="5867280"/>
            <a:ext cx="7272360" cy="609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самопознания и положительной оцен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Горизонтальный свиток 8"/>
          <p:cNvSpPr/>
          <p:nvPr/>
        </p:nvSpPr>
        <p:spPr>
          <a:xfrm>
            <a:off x="1857240" y="357120"/>
            <a:ext cx="671544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dc69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нформационно- практико- ориентирован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51" name="Нашивка 7"/>
          <p:cNvSpPr/>
          <p:nvPr/>
        </p:nvSpPr>
        <p:spPr>
          <a:xfrm>
            <a:off x="121428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ашивка 10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ашивка 11"/>
          <p:cNvSpPr/>
          <p:nvPr/>
        </p:nvSpPr>
        <p:spPr>
          <a:xfrm>
            <a:off x="1214280" y="592920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ашивка 12"/>
          <p:cNvSpPr/>
          <p:nvPr/>
        </p:nvSpPr>
        <p:spPr>
          <a:xfrm>
            <a:off x="1285920" y="5143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714680" y="21337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т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способност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к созд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ыразительного художественн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 основе полученных знани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714680" y="3809880"/>
            <a:ext cx="6858000" cy="68580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сшир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представле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о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714680" y="46483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вершенство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ва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навык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худож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деятельности и пополн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зна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тва и исследовательской дея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59" name="Горизонтальный свиток 11"/>
          <p:cNvSpPr/>
          <p:nvPr/>
        </p:nvSpPr>
        <p:spPr>
          <a:xfrm>
            <a:off x="2071800" y="428760"/>
            <a:ext cx="6286320" cy="1428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57240">
            <a:solidFill>
              <a:srgbClr val="19f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Смешанные 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ашивка 7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ашивка 9"/>
          <p:cNvSpPr/>
          <p:nvPr/>
        </p:nvSpPr>
        <p:spPr>
          <a:xfrm>
            <a:off x="1285920" y="5072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ашивка 10"/>
          <p:cNvSpPr/>
          <p:nvPr/>
        </p:nvSpPr>
        <p:spPr>
          <a:xfrm>
            <a:off x="128592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"/>
          <p:cNvSpPr/>
          <p:nvPr/>
        </p:nvSpPr>
        <p:spPr>
          <a:xfrm>
            <a:off x="1643040" y="2438280"/>
            <a:ext cx="721512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1 этап – организационный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71760" y="3429000"/>
            <a:ext cx="735804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5b05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2 этап – планирование работы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643040" y="4495680"/>
            <a:ext cx="7286760" cy="76212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3 этап – реализ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714680" y="5562720"/>
            <a:ext cx="7215120" cy="7617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4 этап – презент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Горизонтальный свиток 11"/>
          <p:cNvSpPr/>
          <p:nvPr/>
        </p:nvSpPr>
        <p:spPr>
          <a:xfrm>
            <a:off x="2000160" y="285840"/>
            <a:ext cx="6500880" cy="1785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381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Этапы разработ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с вырезом 12"/>
          <p:cNvSpPr/>
          <p:nvPr/>
        </p:nvSpPr>
        <p:spPr>
          <a:xfrm>
            <a:off x="214200" y="257184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с вырезом 13"/>
          <p:cNvSpPr/>
          <p:nvPr/>
        </p:nvSpPr>
        <p:spPr>
          <a:xfrm>
            <a:off x="285840" y="364320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право с вырезом 15"/>
          <p:cNvSpPr/>
          <p:nvPr/>
        </p:nvSpPr>
        <p:spPr>
          <a:xfrm>
            <a:off x="285840" y="4643280"/>
            <a:ext cx="1143000" cy="50040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400"/>
              <a:gd name="textAreaBottom" fmla="*/ 375480 h 50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с вырезом 18"/>
          <p:cNvSpPr/>
          <p:nvPr/>
        </p:nvSpPr>
        <p:spPr>
          <a:xfrm>
            <a:off x="285840" y="564372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5297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развит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7120" y="1000080"/>
          <a:ext cx="8429760" cy="5673600"/>
        </p:xfrm>
        <a:graphic>
          <a:graphicData uri="http://schemas.openxmlformats.org/drawingml/2006/table">
            <a:tbl>
              <a:tblPr/>
              <a:tblGrid>
                <a:gridCol w="2571840"/>
                <a:gridCol w="585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бор темы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довлетворение интересов и потребностей ребёнка, запросов родителей, воспитатель иници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Модель трёх вопрос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Что знаем? Что хотим узнать? Как узнать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ление «Паутинки» (виды деятельности, направленные на реализацию проек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анирование проектов (конечный продук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лендарное пла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ализация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дача воспитателя: Организация деятельности детей в центрах (образовательных областях), оснащение оборудованием и материалами в соответствии с темой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вершение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зентация конечного 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9"/>
          <p:cNvSpPr/>
          <p:nvPr/>
        </p:nvSpPr>
        <p:spPr>
          <a:xfrm>
            <a:off x="3571920" y="2173320"/>
            <a:ext cx="2357280" cy="218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eorgia"/>
                <a:ea typeface="Calibri"/>
              </a:rPr>
              <a:t>Метод  проекта даёт педагогам большую возмож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5483160" y="1000080"/>
            <a:ext cx="2660760" cy="2244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Разв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интеллектуальный и творческий потенциал посредством использования  схем, карт, моделей алгорит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1428840" y="3481560"/>
            <a:ext cx="2500200" cy="22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Georgia"/>
                <a:ea typeface="Calibri"/>
              </a:rPr>
              <a:t>- музыкальным руководителям развивать музыкальные и танцеваль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 rot="177600">
            <a:off x="5695560" y="3233520"/>
            <a:ext cx="2660760" cy="2266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a55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  <a:ea typeface="Calibri"/>
              </a:rPr>
              <a:t>прививать навыки культурного поведения, самообслуживания, стремления к здоровому образу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57200" y="1285920"/>
            <a:ext cx="2440080" cy="2286000"/>
          </a:xfrm>
          <a:prstGeom prst="ellipse">
            <a:avLst/>
          </a:prstGeom>
          <a:solidFill>
            <a:srgbClr val="a55df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eorgia"/>
                <a:ea typeface="Calibri"/>
              </a:rPr>
              <a:t>развивать артистизм и яркость речи в постановке спектаклей в  теат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"/>
          <p:cNvSpPr/>
          <p:nvPr/>
        </p:nvSpPr>
        <p:spPr>
          <a:xfrm>
            <a:off x="3500280" y="4286160"/>
            <a:ext cx="2500560" cy="2143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Georgia"/>
                <a:ea typeface="Calibri"/>
              </a:rPr>
              <a:t>-инструктору по физкультуре развивать детей физически во время интегрированных занятий-прогул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3"/>
          <p:cNvSpPr/>
          <p:nvPr/>
        </p:nvSpPr>
        <p:spPr>
          <a:xfrm rot="512400">
            <a:off x="5338800" y="4178160"/>
            <a:ext cx="576360" cy="2651400"/>
          </a:xfrm>
          <a:prstGeom prst="pie">
            <a:avLst/>
          </a:pr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"/>
          <p:cNvSpPr/>
          <p:nvPr/>
        </p:nvSpPr>
        <p:spPr>
          <a:xfrm rot="19446000">
            <a:off x="5653080" y="6026040"/>
            <a:ext cx="1380960" cy="23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"/>
          <p:cNvSpPr/>
          <p:nvPr/>
        </p:nvSpPr>
        <p:spPr>
          <a:xfrm rot="885600">
            <a:off x="4733640" y="6210360"/>
            <a:ext cx="1127160" cy="295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4"/>
          <p:cNvSpPr/>
          <p:nvPr/>
        </p:nvSpPr>
        <p:spPr>
          <a:xfrm>
            <a:off x="3429000" y="142920"/>
            <a:ext cx="2571840" cy="207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выявлять  «зону ближайшего развития» и соответственно планировать дальнейшую работу с н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004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оспитательно-образовательном процессе ДОУ проектная деятельность носит характер сотрудничества, в котором принимают участие дети , педагоги  и вовлекаются родители. Родители становятся непосредственными участниками образовательного процесса. Они обогащают свой педагогический опыт, испытывая чувство сопричастности и удовлетворения от своих успехов и успехов ребёнка. Педагогам очень важно не руководить, а помогать родителям, увидеть их сильные стороны, быть готовым у них учитьс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быть «всезнайкой», а искать решение проблем вместе с родителями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иль общения должен быть сотрудническим - это залог успеха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Горизонтальный свиток 6"/>
          <p:cNvGrpSpPr/>
          <p:nvPr/>
        </p:nvGrpSpPr>
        <p:grpSpPr>
          <a:xfrm>
            <a:off x="1047600" y="-23760"/>
            <a:ext cx="7907400" cy="1693800"/>
            <a:chOff x="1047600" y="-23760"/>
            <a:chExt cx="7907400" cy="1693800"/>
          </a:xfrm>
        </p:grpSpPr>
        <p:pic>
          <p:nvPicPr>
            <p:cNvPr id="188" name="Горизонтальный свиток 6" descr=""/>
            <p:cNvPicPr/>
            <p:nvPr/>
          </p:nvPicPr>
          <p:blipFill>
            <a:blip r:embed="rId2"/>
            <a:stretch/>
          </p:blipFill>
          <p:spPr>
            <a:xfrm>
              <a:off x="1047600" y="-23760"/>
              <a:ext cx="79074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276200" y="204840"/>
              <a:ext cx="755028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оль педагога при взаимодействи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 семьей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3840" y="99972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етода проектов – показатель высокой квалификации педагога, его прогрессивной методики обучения и развития детей. Недаром эти технологии относят к технологиям  ХХ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, предусматривающим, прежде всего, умение адаптироваться к стремительно изменяющимся условиям жизни человека. Интенсивное изменение окружающей жизни, активное проникновение научно-технического прогресса во все её сферы диктуют педагогу необходимость выбирать более эффективные средства обучения и воспитания на основе интегрированных технологий, каковой является проектный метод. Он направлен на развитие личности ребёнка, его познавательных и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и семья должны стремиться к созданию единого пространства развития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ru-RU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</a:t>
            </a:r>
            <a:br>
              <a:rPr sz="7200"/>
            </a:br>
            <a:r>
              <a:rPr b="1" i="1" lang="ru-RU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за 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3581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етода проекта в дошкольном образовании как одного из методов интегративного обучения дошкольников, позволяет значительно повысить самостоятельную активность детей, развить творческое мышление, умение детей самостоятельно, разными способами  находить информацию об интересующем предмете или явлении и использовать эти знания для создания новых объектов действительности. А так же  делает образовательную систему ДОУ открытой для активного участия родителе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еводе с греческого проект – это путь исследования.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– это метод педагогически организованного освоения ребёнком окружающей среды в процессе поэтапной и заранее спланированной практической деятельности по достижению намеченных ц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615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школьном образовании метод проект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ссматривается как один из вариантов интеграции (интеграция образовательных областей на основе единого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етода проектов в обучении дошкольник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является подготовительным этапом для дальнейшей его реализации на следующей ступени образования. Особенностью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ой деятельности в дошкольно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системе образования является то, что ребенок еще не может самостоятельно найти противоречия в окружающем, сформулировать проблему, определить цель 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замысел)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Поэтому в воспитательно-образовательном процессе ДОУ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а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еятельность носит характер сотрудничества, в котором принимают участие дети и педагоги ДОУ, а также вовлекаются родители и другие члены семьи. Родители могут быть не только источниками информации, реальной помощи и поддержки ребенку и педагогу в процессе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над проектом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о и стать непосредственными участниками образовательного процесса, обогатить свой педагогически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еты воспитателю по работе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5840" y="1225440"/>
            <a:ext cx="8858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убоко изучить тематику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составлении плана работы с детьми над проектом поддерживать детскую инициативу, заинтересовать каждого ребёнка тематикой проекта, поддерживать его инициат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игровую мотивацию, опираясь на интересы детей и их эмоциональный отк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одить детей в проблемную ситуацию, доступную для их понимания и с опорой на детский личный 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тично рассматривать все предложенные детьми варианты решения проблемы: ребёнок должен иметь право на ошибку и не бояться высказы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людать принцип последовательности и регулярности в работе над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работы над проектом создать атмосферу сотворчества с ребёнком, используя индивидуальный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ое воображение и фантазию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 подходить к реализации проекта; ориентировать детей на использование накопленных наблюдений, знаний, впечат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155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лнце 14"/>
          <p:cNvSpPr/>
          <p:nvPr/>
        </p:nvSpPr>
        <p:spPr>
          <a:xfrm>
            <a:off x="2643120" y="357120"/>
            <a:ext cx="4071960" cy="2857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проекто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Облако 18"/>
          <p:cNvGrpSpPr/>
          <p:nvPr/>
        </p:nvGrpSpPr>
        <p:grpSpPr>
          <a:xfrm>
            <a:off x="122400" y="128520"/>
            <a:ext cx="3114360" cy="1755720"/>
            <a:chOff x="122400" y="128520"/>
            <a:chExt cx="3114360" cy="1755720"/>
          </a:xfrm>
        </p:grpSpPr>
        <p:pic>
          <p:nvPicPr>
            <p:cNvPr id="95" name="Облако 18" descr=""/>
            <p:cNvPicPr/>
            <p:nvPr/>
          </p:nvPicPr>
          <p:blipFill>
            <a:blip r:embed="rId2"/>
            <a:stretch/>
          </p:blipFill>
          <p:spPr>
            <a:xfrm>
              <a:off x="122400" y="128520"/>
              <a:ext cx="31143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69960" y="501480"/>
              <a:ext cx="181908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Твор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блако 19"/>
          <p:cNvGrpSpPr/>
          <p:nvPr/>
        </p:nvGrpSpPr>
        <p:grpSpPr>
          <a:xfrm>
            <a:off x="6334200" y="268200"/>
            <a:ext cx="2547720" cy="1401840"/>
            <a:chOff x="6334200" y="268200"/>
            <a:chExt cx="2547720" cy="1401840"/>
          </a:xfrm>
        </p:grpSpPr>
        <p:pic>
          <p:nvPicPr>
            <p:cNvPr id="98" name="Облако 19" descr=""/>
            <p:cNvPicPr/>
            <p:nvPr/>
          </p:nvPicPr>
          <p:blipFill>
            <a:blip r:embed="rId3"/>
            <a:stretch/>
          </p:blipFill>
          <p:spPr>
            <a:xfrm>
              <a:off x="6334200" y="268200"/>
              <a:ext cx="2547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05440" y="59040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Игр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блако 20"/>
          <p:cNvGrpSpPr/>
          <p:nvPr/>
        </p:nvGrpSpPr>
        <p:grpSpPr>
          <a:xfrm>
            <a:off x="-165240" y="2627280"/>
            <a:ext cx="3902040" cy="1755720"/>
            <a:chOff x="-165240" y="2627280"/>
            <a:chExt cx="3902040" cy="1755720"/>
          </a:xfrm>
        </p:grpSpPr>
        <p:pic>
          <p:nvPicPr>
            <p:cNvPr id="101" name="Облако 20" descr=""/>
            <p:cNvPicPr/>
            <p:nvPr/>
          </p:nvPicPr>
          <p:blipFill>
            <a:blip r:embed="rId4"/>
            <a:stretch/>
          </p:blipFill>
          <p:spPr>
            <a:xfrm>
              <a:off x="-165240" y="2627280"/>
              <a:ext cx="390204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2120" y="3002040"/>
              <a:ext cx="2333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Информационно-практик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ори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блако 21"/>
          <p:cNvGrpSpPr/>
          <p:nvPr/>
        </p:nvGrpSpPr>
        <p:grpSpPr>
          <a:xfrm>
            <a:off x="5979960" y="2200320"/>
            <a:ext cx="3329280" cy="1828800"/>
            <a:chOff x="5979960" y="2200320"/>
            <a:chExt cx="3329280" cy="1828800"/>
          </a:xfrm>
        </p:grpSpPr>
        <p:pic>
          <p:nvPicPr>
            <p:cNvPr id="104" name="Облако 21" descr=""/>
            <p:cNvPicPr/>
            <p:nvPr/>
          </p:nvPicPr>
          <p:blipFill>
            <a:blip r:embed="rId5"/>
            <a:stretch/>
          </p:blipFill>
          <p:spPr>
            <a:xfrm>
              <a:off x="5979960" y="2200320"/>
              <a:ext cx="3329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56320" y="2584440"/>
              <a:ext cx="1960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Исследователь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блако 22"/>
          <p:cNvGrpSpPr/>
          <p:nvPr/>
        </p:nvGrpSpPr>
        <p:grpSpPr>
          <a:xfrm>
            <a:off x="3121200" y="3200400"/>
            <a:ext cx="3402000" cy="1401840"/>
            <a:chOff x="3121200" y="3200400"/>
            <a:chExt cx="3402000" cy="1401840"/>
          </a:xfrm>
        </p:grpSpPr>
        <p:pic>
          <p:nvPicPr>
            <p:cNvPr id="107" name="Облако 22" descr=""/>
            <p:cNvPicPr/>
            <p:nvPr/>
          </p:nvPicPr>
          <p:blipFill>
            <a:blip r:embed="rId6"/>
            <a:stretch/>
          </p:blipFill>
          <p:spPr>
            <a:xfrm>
              <a:off x="3121200" y="3200400"/>
              <a:ext cx="3402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710160" y="3519360"/>
              <a:ext cx="2006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Смеш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4214880"/>
            <a:ext cx="8643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од проектов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 это способ организации педагогического процесса, основанный на взаимодействии педагога и воспитанника, способ взаимодействия   с окружающей средой, поэтапная  практическая деятельность по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2"/>
          <p:cNvGrpSpPr/>
          <p:nvPr/>
        </p:nvGrpSpPr>
        <p:grpSpPr>
          <a:xfrm>
            <a:off x="1285920" y="428760"/>
            <a:ext cx="7643160" cy="4784760"/>
            <a:chOff x="1285920" y="428760"/>
            <a:chExt cx="7643160" cy="4784760"/>
          </a:xfrm>
        </p:grpSpPr>
        <p:cxnSp>
          <p:nvCxnSpPr>
            <p:cNvPr id="111" name="_s1028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966280" y="1482840"/>
              <a:ext cx="957600" cy="2675880"/>
            </a:xfrm>
            <a:prstGeom prst="bentConnector3">
              <a:avLst>
                <a:gd name="adj1" fmla="val 13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9"/>
            <p:cNvCxnSpPr>
              <a:stCxn id="115" idx="0"/>
              <a:endCxn id="113" idx="2"/>
            </p:cNvCxnSpPr>
            <p:nvPr/>
          </p:nvCxnSpPr>
          <p:spPr>
            <a:xfrm flipV="1">
              <a:off x="5107680" y="2342160"/>
              <a:ext cx="3600" cy="95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3" idx="2"/>
            </p:cNvCxnSpPr>
            <p:nvPr/>
          </p:nvCxnSpPr>
          <p:spPr>
            <a:xfrm flipH="1" flipV="1" rot="5400000">
              <a:off x="3290760" y="1482840"/>
              <a:ext cx="957600" cy="2675880"/>
            </a:xfrm>
            <a:prstGeom prst="bentConnector3">
              <a:avLst>
                <a:gd name="adj1" fmla="val 13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31"/>
            <p:cNvSpPr/>
            <p:nvPr/>
          </p:nvSpPr>
          <p:spPr>
            <a:xfrm>
              <a:off x="3961080" y="428760"/>
              <a:ext cx="2292840" cy="191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родолжи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1285920" y="3299760"/>
              <a:ext cx="2292840" cy="191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Краткосро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Несколько занят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-2 нед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3"/>
            <p:cNvSpPr/>
            <p:nvPr/>
          </p:nvSpPr>
          <p:spPr>
            <a:xfrm>
              <a:off x="3961080" y="3299760"/>
              <a:ext cx="2292840" cy="191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ред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родолжи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-3 меся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>
              <a:off x="6636240" y="3299760"/>
              <a:ext cx="2292840" cy="191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лгосро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 г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905120" y="2133720"/>
            <a:ext cx="673884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игровых умений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оощрение инициативности игровых замысл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навыков обще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905120" y="4648320"/>
            <a:ext cx="666756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спользование игры для обог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носторонних представлен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действи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 rot="5400000">
            <a:off x="-781560" y="3781440"/>
            <a:ext cx="3372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6263a"/>
                  </a:solidFill>
                  <a:miter/>
                </a:ln>
                <a:solidFill>
                  <a:srgbClr val="5b05b1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26263a"/>
                </a:solidFill>
                <a:miter/>
              </a:ln>
              <a:solidFill>
                <a:srgbClr val="5b05b1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Горизонтальный свиток 8"/>
          <p:cNvSpPr/>
          <p:nvPr/>
        </p:nvSpPr>
        <p:spPr>
          <a:xfrm>
            <a:off x="2357280" y="357120"/>
            <a:ext cx="5786640" cy="1500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гров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24" name="Нашивка 11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ашивка 12"/>
          <p:cNvSpPr/>
          <p:nvPr/>
        </p:nvSpPr>
        <p:spPr>
          <a:xfrm>
            <a:off x="1428840" y="4000680"/>
            <a:ext cx="428400" cy="42840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ашивка 13"/>
          <p:cNvSpPr/>
          <p:nvPr/>
        </p:nvSpPr>
        <p:spPr>
          <a:xfrm>
            <a:off x="1357200" y="52862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1905120" y="213372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творческого потенциал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частника проекта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905120" y="312408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владение различными вид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905120" y="411480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глубленное приобщение к искусст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родному творчеству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828800" y="5181480"/>
            <a:ext cx="647712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овлечение в дизайнерскую деятельность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9"/>
          <p:cNvSpPr/>
          <p:nvPr/>
        </p:nvSpPr>
        <p:spPr>
          <a:xfrm>
            <a:off x="2143080" y="428760"/>
            <a:ext cx="6072120" cy="1571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Вертикальный свиток 10" descr=""/>
          <p:cNvPicPr/>
          <p:nvPr/>
        </p:nvPicPr>
        <p:blipFill>
          <a:blip r:embed="rId2"/>
          <a:stretch/>
        </p:blipFill>
        <p:spPr>
          <a:xfrm>
            <a:off x="158760" y="1889280"/>
            <a:ext cx="1322280" cy="4402080"/>
          </a:xfrm>
          <a:prstGeom prst="rect">
            <a:avLst/>
          </a:prstGeom>
          <a:ln w="0">
            <a:noFill/>
          </a:ln>
        </p:spPr>
      </p:pic>
      <p:sp>
        <p:nvSpPr>
          <p:cNvPr id="133" name="Нашивка 8"/>
          <p:cNvSpPr/>
          <p:nvPr/>
        </p:nvSpPr>
        <p:spPr>
          <a:xfrm>
            <a:off x="1357200" y="235728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ашивка 12"/>
          <p:cNvSpPr/>
          <p:nvPr/>
        </p:nvSpPr>
        <p:spPr>
          <a:xfrm>
            <a:off x="1428840" y="328608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ашивка 13"/>
          <p:cNvSpPr/>
          <p:nvPr/>
        </p:nvSpPr>
        <p:spPr>
          <a:xfrm>
            <a:off x="1357200" y="428616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ашивка 14"/>
          <p:cNvSpPr/>
          <p:nvPr/>
        </p:nvSpPr>
        <p:spPr>
          <a:xfrm>
            <a:off x="1357200" y="53578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905120" y="2133720"/>
            <a:ext cx="666756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познавательных способностей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блюдать, описывать, сравн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троить предположения и предлагать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х провер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истематизация знаний об окружающем мир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905120" y="4648320"/>
            <a:ext cx="659592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элементарных предст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взаимосвязях и взаимозависимостях в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ирод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41" name="Горизонтальный свиток 9"/>
          <p:cNvSpPr/>
          <p:nvPr/>
        </p:nvSpPr>
        <p:spPr>
          <a:xfrm>
            <a:off x="1928880" y="357120"/>
            <a:ext cx="657216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сследователь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ашивка 7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ашивка 10"/>
          <p:cNvSpPr/>
          <p:nvPr/>
        </p:nvSpPr>
        <p:spPr>
          <a:xfrm>
            <a:off x="1357200" y="3929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ашивка 11"/>
          <p:cNvSpPr/>
          <p:nvPr/>
        </p:nvSpPr>
        <p:spPr>
          <a:xfrm>
            <a:off x="1428840" y="507204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11-01T09:38:04Z</dcterms:modified>
  <cp:revision>63</cp:revision>
  <dc:subject/>
  <dc:title>Слайд 1</dc:title>
</cp:coreProperties>
</file>